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531CFC-F62E-4F69-88E5-FA9623CE23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A27D9-A652-4F3D-8026-0ED5AEE70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9F997-AABE-406A-9C28-1EC9C91CF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2A5CE2-6C19-4AF1-B26E-326C778D2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3127F-B765-43B9-B35A-2771501C9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69452-8D2B-4E6D-8A5D-59222C883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81B5E-F61F-4F72-8FB0-A1E498C53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E8BDB-4C9C-414F-A039-E70D40CBF1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BFAAB9-8A64-4020-9D29-A102E961F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1AB48-A2FB-4BE6-8742-B32157A7B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A9783-7BC2-49CD-A0AC-6219E85CE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D60BF-4E89-45BD-82BF-68C3FE7618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4055-FA03-41C2-9D2F-3FEED0788E46}"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76BD9FEC-74C1-4415-8813-2052F1D5CC6A}" type="datetime12">
              <a:rPr b="0" lang="en-US" sz="1400" spc="-1" strike="noStrike">
                <a:solidFill>
                  <a:srgbClr val="000000"/>
                </a:solidFill>
                <a:latin typeface="Times New Roman"/>
              </a:rPr>
              <a:t>09:45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C5A3-A698-4A1B-8887-3A2159381E7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l Transcript Analysis (MT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0BCE41E-4578-44CB-A236-437CC072F0DB}"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edical Transcript Analysis (MT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T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1EA6B2B-0A1D-47C3-8D20-57B5DC93BF1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T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4E74F93-4C0A-4E89-BE64-18B6CFCAE0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3A7DFF2-B76E-4002-81EE-2D95747253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T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MT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1936754-5938-426B-98FD-51173F9868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MT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3F78C67-DF9D-46DE-A43C-A9D13CDC16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10F21D8-BCB0-4F67-B7F6-E01FD0161C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15E18AE5-F624-4B74-83AC-4AFD677D9D15}"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12T22:52:47Z</dcterms:modified>
  <cp:revision>365</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