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392C6-3608-43ED-9BEA-1131C42CA4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8ECCD-B326-4480-BC1D-61C5F7708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D808C9-EB15-4215-BA7C-9D8DB094A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D3F7A1-BA79-4047-8D93-423BE597C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65AE6-CB17-4F06-AB83-B7C4DC69C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DFDB5-4337-40F1-8650-2684F47C8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A0CF5C-0454-4161-B965-EAA67C101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A1574-90AF-483B-8BA2-E15F8A7AF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F1FDB-E429-41B1-A38C-9C706703A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78CB3-49FB-4BB4-B371-C5DD0585A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CDB80-2E36-4EF9-81E0-976E1FA41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1A190-98D2-4C2A-BB9A-8A024CB46D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2E8C-8003-461D-8AF5-E18892421C52}"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FB5FC6BA-B877-4330-8AF4-99834AC72C6B}" type="datetime12">
              <a:rPr b="0" lang="en-US" sz="1400" spc="-1" strike="noStrike">
                <a:solidFill>
                  <a:srgbClr val="000000"/>
                </a:solidFill>
                <a:latin typeface="Times New Roman"/>
              </a:rPr>
              <a:t>09:45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2E57-F5D3-4921-B531-E08D53E9F9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gislative Analysis Tool</a:t>
            </a:r>
            <a:br>
              <a:rPr sz="4400"/>
            </a:br>
            <a:r>
              <a:rPr b="0" lang="en-US" sz="4400" spc="-1" strike="noStrike">
                <a:solidFill>
                  <a:srgbClr val="000000"/>
                </a:solidFill>
                <a:latin typeface="Times New Roman"/>
              </a:rPr>
              <a:t>(L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0F2FC72-486E-47D4-981B-C2E41AFA001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egislative Analysis Tool (LAT) is based on Internet technologies, and allows a user to analyze Legislation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902CA20F-7B44-498F-BF4D-CA4C8297981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L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small tow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gislators, 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E7F1A4F-F82F-4091-8C0D-11C606D828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1DE03E5E-337B-4D35-8811-861B76B335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BC47DF6-ADFC-478B-B810-33EC33A1F37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L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A1701C84-C4DD-4F57-AFA1-4B0F865DFD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legislative elements, committees, roles, special interests, representatives, reading level, word themes, duplicates, etc</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government type, inalienable rights, separation of powers, roles, elections, representatives, challenges, scar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13536B0-820E-4FE2-8C75-E49345FE66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legisl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D24CFB8-76FB-4ACA-A73E-DBC04A5D45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AT 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124DB4F7-F609-4D30-9D4D-8E8CF90FE6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43:16Z</dcterms:modified>
  <cp:revision>362</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